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7.gif" ContentType="image/gif"/>
  <Override PartName="/ppt/media/image1.wmf" ContentType="image/x-wmf"/>
  <Override PartName="/ppt/media/image2.wmf" ContentType="image/x-wmf"/>
  <Override PartName="/ppt/media/chimes.wav" ContentType="audio/x-wav"/>
  <Override PartName="/ppt/media/MSj00748430000%5B1%5D.wav" ContentType="audio/x-wav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79A-5F07-421D-94A2-CD871A05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9B0-2946-41F7-BD23-706943C0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250-DF29-4F86-A919-65A709A6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2C6-DDB8-48AF-B475-2988A9D3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667F-07B3-4564-87F7-07A72325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0784-1638-4AAD-BE02-FB8882EC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E845-B331-432D-BA40-6A5D437B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E4DD-3FDE-45DF-A14D-F47D2D3D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444A-6FCE-4F8F-AD97-82ABFBFD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EE61-EC15-4054-B249-A2B3652D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1F18-0D81-4E09-B75A-A00ED1A9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2C8-B458-4D07-B98D-1AD84DB6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1D97-2D82-483B-9385-84B31D67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4676-3E28-4679-A66E-356FEFC1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0BFB-2CE9-49BB-B691-F401D31B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AFE0-D2E3-4ECB-9AD1-559417B9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C4CE-7058-4276-AFB2-67733C6E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4FA-F2CC-40F8-948F-69B60AA1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AF8-ED97-4262-88D6-61C91020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99A-6283-42DD-8F11-87C93B53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962-2871-4340-8612-937B262A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BDA-5174-4FA1-B054-16449593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A01-F59D-44EF-A9D1-10359FC1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945-3ED2-472E-A0D4-8E0AB5F8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2E07-62C2-42AF-916B-AABCDB77B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732F-4C7D-41A2-8001-B59389F34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gi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1552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Making Words 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219564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987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378000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457200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12"/>
          <p:cNvSpPr/>
          <p:nvPr/>
        </p:nvSpPr>
        <p:spPr>
          <a:xfrm>
            <a:off x="5435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19" descr="MCj04110310000[1]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0"/>
          <p:cNvSpPr/>
          <p:nvPr/>
        </p:nvSpPr>
        <p:spPr>
          <a:xfrm>
            <a:off x="6516720" y="3284640"/>
            <a:ext cx="1584360" cy="792000"/>
          </a:xfrm>
          <a:prstGeom prst="wedgeEllipseCallout">
            <a:avLst>
              <a:gd name="adj1" fmla="val 27856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26" descr="MC900156471[1]"/>
          <p:cNvPicPr/>
          <p:nvPr/>
        </p:nvPicPr>
        <p:blipFill>
          <a:blip r:embed="rId2"/>
          <a:stretch/>
        </p:blipFill>
        <p:spPr>
          <a:xfrm>
            <a:off x="1116000" y="2492280"/>
            <a:ext cx="1212840" cy="1835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219564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2987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378000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457200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5435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2" descr="MCj04110310000[1]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3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16" descr="MC900287192[1]"/>
          <p:cNvPicPr/>
          <p:nvPr/>
        </p:nvPicPr>
        <p:blipFill>
          <a:blip r:embed="rId2"/>
          <a:stretch/>
        </p:blipFill>
        <p:spPr>
          <a:xfrm>
            <a:off x="539640" y="2492280"/>
            <a:ext cx="1570320" cy="1211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500"/>
                            </p:stCondLst>
                            <p:childTnLst>
                              <p:par>
                                <p:cTn id="26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219564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2987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78000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457200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5435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2" descr="MCj04110310000[1]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3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15" descr="MC900281776[1]"/>
          <p:cNvPicPr/>
          <p:nvPr/>
        </p:nvPicPr>
        <p:blipFill>
          <a:blip r:embed="rId2"/>
          <a:stretch/>
        </p:blipFill>
        <p:spPr>
          <a:xfrm>
            <a:off x="826920" y="2637000"/>
            <a:ext cx="1670040" cy="1819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500"/>
                            </p:stCondLst>
                            <p:childTnLst>
                              <p:par>
                                <p:cTn id="40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219564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2987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378000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457200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5435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12" descr="MCj04110310000[1]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13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15" descr="MP910221095[1]"/>
          <p:cNvPicPr/>
          <p:nvPr/>
        </p:nvPicPr>
        <p:blipFill>
          <a:blip r:embed="rId2"/>
          <a:stretch/>
        </p:blipFill>
        <p:spPr>
          <a:xfrm>
            <a:off x="755640" y="2276640"/>
            <a:ext cx="1817640" cy="2778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9500"/>
                            </p:stCondLst>
                            <p:childTnLst>
                              <p:par>
                                <p:cTn id="54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219564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2987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378000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457200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5435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2" descr="MCj04110310000[1]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13"/>
          <p:cNvSpPr/>
          <p:nvPr/>
        </p:nvSpPr>
        <p:spPr>
          <a:xfrm>
            <a:off x="6516720" y="3284640"/>
            <a:ext cx="1584360" cy="792000"/>
          </a:xfrm>
          <a:prstGeom prst="wedgeEllipseCallout">
            <a:avLst>
              <a:gd name="adj1" fmla="val 27856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15" descr="MC900384276[1]"/>
          <p:cNvPicPr/>
          <p:nvPr/>
        </p:nvPicPr>
        <p:blipFill>
          <a:blip r:embed="rId2"/>
          <a:stretch/>
        </p:blipFill>
        <p:spPr>
          <a:xfrm>
            <a:off x="611280" y="2492280"/>
            <a:ext cx="1817640" cy="1681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9000"/>
                            </p:stCondLst>
                            <p:childTnLst>
                              <p:par>
                                <p:cTn id="6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69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7500"/>
                            </p:stCondLst>
                            <p:childTnLst>
                              <p:par>
                                <p:cTn id="69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219564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2987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457200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5435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12" descr="MCj04110310000[1]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3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15" descr="MM900041144[1]"/>
          <p:cNvPicPr/>
          <p:nvPr/>
        </p:nvPicPr>
        <p:blipFill>
          <a:blip r:embed="rId2"/>
          <a:stretch/>
        </p:blipFill>
        <p:spPr>
          <a:xfrm>
            <a:off x="539640" y="2781360"/>
            <a:ext cx="1728720" cy="1585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0"/>
                            </p:stCondLst>
                            <p:childTnLst>
                              <p:par>
                                <p:cTn id="804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9000"/>
                            </p:stCondLst>
                            <p:childTnLst>
                              <p:par>
                                <p:cTn id="8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9500"/>
                            </p:stCondLst>
                            <p:childTnLst>
                              <p:par>
                                <p:cTn id="82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82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2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3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uper work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re amazing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ry and make up some words yourself.  Use the same beginning and ending but change the vowel sou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6:09:57Z</dcterms:created>
  <dc:creator>Franklin</dc:creator>
  <dc:description/>
  <dc:language>en-US</dc:language>
  <cp:lastModifiedBy>Gabriella</cp:lastModifiedBy>
  <dcterms:modified xsi:type="dcterms:W3CDTF">2011-08-23T14:47:31Z</dcterms:modified>
  <cp:revision>9</cp:revision>
  <dc:subject/>
  <dc:title>Making Words</dc:title>
</cp:coreProperties>
</file>